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BC4-74FB-42C7-9267-C31755B6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3C8-3C57-43F3-B056-5DD29940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2E8-FCD6-41BB-82EC-F31EC12E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A54-4D7A-4847-B794-5FC8CB1D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AD9-6640-4B0A-B8EC-3E561A27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5D3-DCF4-425F-B1F2-4E457874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3D7-CF3F-43AD-979C-A94E1E1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485-A36C-49A1-9BAB-1AD3D896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988-5474-44EC-91E8-2C790BB2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E54-1AD5-42FC-BEFD-8D03DC58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E81-A707-4037-85A5-561D502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2D6-CBF8-4C04-A2F5-BFB3E4A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12B-C9EE-46E1-A4F9-452B3EDB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7320" y="425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3520" y="210816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4160" y="2981160"/>
            <a:ext cx="1497240" cy="33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480" y="234468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7600" y="1546200"/>
            <a:ext cx="1584360" cy="4460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73160" y="723960"/>
            <a:ext cx="33973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>
            <a:off x="2932200" y="2152800"/>
            <a:ext cx="147600" cy="1027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3560" y="2330280"/>
            <a:ext cx="631800" cy="195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82760" y="1154160"/>
            <a:ext cx="4302000" cy="3122280"/>
            <a:chOff x="4082760" y="1154160"/>
            <a:chExt cx="4302000" cy="3122280"/>
          </a:xfrm>
        </p:grpSpPr>
        <p:sp>
          <p:nvSpPr>
            <p:cNvPr id="162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4760" y="1174680"/>
              <a:ext cx="129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7600" y="18230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2760" y="283320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9600" y="4643280"/>
                <a:ext cx="517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2720" y="3673440"/>
                <a:ext cx="161460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83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476000" y="822240"/>
            <a:ext cx="58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8880" y="6053040"/>
            <a:ext cx="496476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09800" y="1081080"/>
            <a:ext cx="4305240" cy="2894760"/>
            <a:chOff x="4609800" y="1081080"/>
            <a:chExt cx="4305240" cy="2894760"/>
          </a:xfrm>
        </p:grpSpPr>
        <p:grpSp>
          <p:nvGrpSpPr>
            <p:cNvPr id="198" name=""/>
            <p:cNvGrpSpPr/>
            <p:nvPr/>
          </p:nvGrpSpPr>
          <p:grpSpPr>
            <a:xfrm>
              <a:off x="4609800" y="1081080"/>
              <a:ext cx="4268880" cy="2894760"/>
              <a:chOff x="4609800" y="1081080"/>
              <a:chExt cx="4268880" cy="289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1680" y="1099800"/>
                <a:ext cx="61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9800" y="1686600"/>
                <a:ext cx="57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040" y="3494160"/>
                <a:ext cx="8156520" cy="31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216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216480" y="4146480"/>
                <a:ext cx="197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307120" y="4008600"/>
            <a:ext cx="69192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58840" y="4638600"/>
            <a:ext cx="2003400" cy="64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6640" y="1228680"/>
            <a:ext cx="7629480" cy="4649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20281200">
            <a:off x="1809720" y="3684600"/>
            <a:ext cx="3564000" cy="1785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1640" y="4503600"/>
            <a:ext cx="34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6640" y="1781280"/>
            <a:ext cx="3205080" cy="20048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2600" y="2631960"/>
            <a:ext cx="700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0510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1520" y="735120"/>
                <a:ext cx="4230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582240" y="2438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972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319248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35280" y="504828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4280" y="27496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28875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2701800"/>
            <a:ext cx="322200" cy="32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2844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5120" y="1581120"/>
            <a:ext cx="5405400" cy="890640"/>
          </a:xfrm>
          <a:custGeom>
            <a:avLst/>
            <a:gdLst/>
            <a:ahLst/>
            <a:rect l="l" t="t" r="r" b="b"/>
            <a:pathLst>
              <a:path w="3576" h="561">
                <a:moveTo>
                  <a:pt x="0" y="561"/>
                </a:moveTo>
                <a:cubicBezTo>
                  <a:pt x="181" y="362"/>
                  <a:pt x="362" y="164"/>
                  <a:pt x="640" y="82"/>
                </a:cubicBezTo>
                <a:cubicBezTo>
                  <a:pt x="918" y="0"/>
                  <a:pt x="1293" y="66"/>
                  <a:pt x="1670" y="66"/>
                </a:cubicBezTo>
                <a:cubicBezTo>
                  <a:pt x="2047" y="66"/>
                  <a:pt x="2585" y="12"/>
                  <a:pt x="2903" y="82"/>
                </a:cubicBezTo>
                <a:cubicBezTo>
                  <a:pt x="3221" y="152"/>
                  <a:pt x="3463" y="420"/>
                  <a:pt x="357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7680" y="1312920"/>
            <a:ext cx="12852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240" y="23432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98760" y="32004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262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9720" y="2919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2584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6680" y="28782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4880" y="33606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36543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3764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36799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0" y="23018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38720" y="31590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2584440"/>
            <a:ext cx="92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3680" y="28782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5200" y="25430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86640" y="28368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85200" y="3319560"/>
            <a:ext cx="16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77280" y="3613320"/>
            <a:ext cx="47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8360" y="33354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638520"/>
            <a:ext cx="9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26258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4960" y="29145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5040" y="2583000"/>
            <a:ext cx="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92720" y="28908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3520" y="45655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7040" y="54230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6280" y="48481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5141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3520" y="48070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960" y="5100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3520" y="55832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5600" y="587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55990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8040" y="59022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4680" y="48546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62080" y="51372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51022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0160" y="28926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45784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3640" y="54356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4861080"/>
            <a:ext cx="9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515448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8196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560" y="51134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5958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2200" y="58896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03920" y="56116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6120" y="59151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15080" y="51483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67520" y="51307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56560" y="25383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39160" y="28386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" y="2655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800" y="4932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5160" y="14288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3760" y="1422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9560" y="1944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30480" y="1879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800" y="413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14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91280" y="2660760"/>
            <a:ext cx="0" cy="86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48760" y="25142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8880" y="46911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783560" y="47023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2560" y="26384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67480" y="32385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67480" y="48960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67480" y="55828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87440" y="30427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27120" y="52498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22600" y="47372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1040" y="25430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8160" y="20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25120" y="1922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2400" y="29084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1280" y="29019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86120" y="51595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13480" y="51786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03600" y="38480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13040" y="37353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9040" y="60562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400800" y="60674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319720" y="494136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3000" y="152244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95720" y="2536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2760" y="28414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24880" y="25081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27846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2160" y="25938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24200" y="28987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5360" y="48229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9880" y="5118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3960" y="1752480"/>
                <a:ext cx="48052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6560" y="2276640"/>
            <a:ext cx="384804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851200" y="1114560"/>
                <a:ext cx="279540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417760" y="3498840"/>
            <a:ext cx="42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48880" y="4219560"/>
            <a:ext cx="5045040" cy="2168280"/>
            <a:chOff x="1748880" y="4219560"/>
            <a:chExt cx="5045040" cy="2168280"/>
          </a:xfrm>
        </p:grpSpPr>
        <p:sp>
          <p:nvSpPr>
            <p:cNvPr id="359" name=""/>
            <p:cNvSpPr/>
            <p:nvPr/>
          </p:nvSpPr>
          <p:spPr>
            <a:xfrm>
              <a:off x="3341880" y="4219560"/>
              <a:ext cx="1611000" cy="993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6840" y="5396040"/>
              <a:ext cx="1609560" cy="991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0200" y="4606200"/>
              <a:ext cx="7534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24640" y="5010840"/>
              <a:ext cx="412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6560" y="4551480"/>
              <a:ext cx="775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66560" y="5615640"/>
              <a:ext cx="390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9680" y="5636880"/>
              <a:ext cx="422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32920" y="5030280"/>
              <a:ext cx="144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14120" y="5680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4520" y="4347720"/>
              <a:ext cx="50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954760" y="563904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7960" y="6193080"/>
              <a:ext cx="315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4200" y="5689800"/>
              <a:ext cx="30888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98280" y="578088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0440" y="5617800"/>
              <a:ext cx="35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0440" y="6059160"/>
              <a:ext cx="144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492800" y="5603400"/>
              <a:ext cx="4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970240" y="459936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72280" y="4558680"/>
              <a:ext cx="1800" cy="1056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4880" y="4611600"/>
              <a:ext cx="1800" cy="155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2120" y="4768200"/>
              <a:ext cx="37836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39720" y="4787280"/>
              <a:ext cx="37872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261760" y="5869080"/>
              <a:ext cx="51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8880" y="507060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72280" y="5615640"/>
              <a:ext cx="35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5120" y="4516560"/>
              <a:ext cx="92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77440" y="5609160"/>
              <a:ext cx="8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701880" y="56052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01920" y="46202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958480" y="4618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8840" y="987480"/>
            <a:ext cx="7376400" cy="5217480"/>
            <a:chOff x="888840" y="987480"/>
            <a:chExt cx="7376400" cy="5217480"/>
          </a:xfrm>
        </p:grpSpPr>
        <p:sp>
          <p:nvSpPr>
            <p:cNvPr id="391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98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3960" y="3040200"/>
              <a:ext cx="34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8040" y="304020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928880" y="5025960"/>
              <a:ext cx="33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6200" y="50324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1880" y="496404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111720" y="3413160"/>
              <a:ext cx="0" cy="18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3200" y="2387880"/>
              <a:ext cx="1336680" cy="459360"/>
            </a:xfrm>
            <a:prstGeom prst="wedgeRectCallout">
              <a:avLst>
                <a:gd name="adj1" fmla="val -78833"/>
                <a:gd name="adj2" fmla="val 134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ampli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0132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8560" y="30351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26680" y="5931000"/>
            <a:ext cx="1969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88840" y="987480"/>
            <a:ext cx="7376400" cy="5403240"/>
            <a:chOff x="888840" y="987480"/>
            <a:chExt cx="7376400" cy="5403240"/>
          </a:xfrm>
        </p:grpSpPr>
        <p:sp>
          <p:nvSpPr>
            <p:cNvPr id="419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93960" y="3040200"/>
              <a:ext cx="31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1582560"/>
              <a:ext cx="3930480" cy="1881360"/>
            </a:xfrm>
            <a:custGeom>
              <a:avLst/>
              <a:gdLst/>
              <a:ahLst/>
              <a:rect l="l" t="t" r="r" b="b"/>
              <a:pathLst>
                <a:path w="1835" h="1181">
                  <a:moveTo>
                    <a:pt x="0" y="0"/>
                  </a:moveTo>
                  <a:cubicBezTo>
                    <a:pt x="93" y="2"/>
                    <a:pt x="186" y="8"/>
                    <a:pt x="294" y="11"/>
                  </a:cubicBezTo>
                  <a:cubicBezTo>
                    <a:pt x="402" y="14"/>
                    <a:pt x="525" y="13"/>
                    <a:pt x="647" y="17"/>
                  </a:cubicBezTo>
                  <a:cubicBezTo>
                    <a:pt x="769" y="21"/>
                    <a:pt x="919" y="15"/>
                    <a:pt x="1025" y="35"/>
                  </a:cubicBezTo>
                  <a:cubicBezTo>
                    <a:pt x="1131" y="55"/>
                    <a:pt x="1220" y="19"/>
                    <a:pt x="1283" y="137"/>
                  </a:cubicBezTo>
                  <a:cubicBezTo>
                    <a:pt x="1346" y="255"/>
                    <a:pt x="1368" y="593"/>
                    <a:pt x="1403" y="743"/>
                  </a:cubicBezTo>
                  <a:cubicBezTo>
                    <a:pt x="1438" y="893"/>
                    <a:pt x="1458" y="972"/>
                    <a:pt x="1493" y="1037"/>
                  </a:cubicBezTo>
                  <a:cubicBezTo>
                    <a:pt x="1528" y="1102"/>
                    <a:pt x="1585" y="1113"/>
                    <a:pt x="1613" y="1133"/>
                  </a:cubicBezTo>
                  <a:cubicBezTo>
                    <a:pt x="1641" y="1153"/>
                    <a:pt x="1624" y="1149"/>
                    <a:pt x="1661" y="1157"/>
                  </a:cubicBezTo>
                  <a:cubicBezTo>
                    <a:pt x="1698" y="1165"/>
                    <a:pt x="1799" y="1176"/>
                    <a:pt x="1835" y="1181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4173480"/>
              <a:ext cx="4282920" cy="1852560"/>
            </a:xfrm>
            <a:custGeom>
              <a:avLst/>
              <a:gdLst/>
              <a:ahLst/>
              <a:rect l="l" t="t" r="r" b="b"/>
              <a:pathLst>
                <a:path w="1999" h="1163">
                  <a:moveTo>
                    <a:pt x="0" y="0"/>
                  </a:moveTo>
                  <a:cubicBezTo>
                    <a:pt x="85" y="5"/>
                    <a:pt x="358" y="13"/>
                    <a:pt x="511" y="29"/>
                  </a:cubicBezTo>
                  <a:cubicBezTo>
                    <a:pt x="664" y="45"/>
                    <a:pt x="807" y="53"/>
                    <a:pt x="919" y="95"/>
                  </a:cubicBezTo>
                  <a:cubicBezTo>
                    <a:pt x="1031" y="137"/>
                    <a:pt x="1110" y="200"/>
                    <a:pt x="1183" y="281"/>
                  </a:cubicBezTo>
                  <a:cubicBezTo>
                    <a:pt x="1256" y="362"/>
                    <a:pt x="1312" y="494"/>
                    <a:pt x="1357" y="581"/>
                  </a:cubicBezTo>
                  <a:cubicBezTo>
                    <a:pt x="1402" y="668"/>
                    <a:pt x="1420" y="743"/>
                    <a:pt x="1453" y="803"/>
                  </a:cubicBezTo>
                  <a:cubicBezTo>
                    <a:pt x="1486" y="863"/>
                    <a:pt x="1503" y="894"/>
                    <a:pt x="1555" y="941"/>
                  </a:cubicBezTo>
                  <a:cubicBezTo>
                    <a:pt x="1607" y="988"/>
                    <a:pt x="1691" y="1048"/>
                    <a:pt x="1765" y="1085"/>
                  </a:cubicBezTo>
                  <a:cubicBezTo>
                    <a:pt x="1839" y="1122"/>
                    <a:pt x="1950" y="1147"/>
                    <a:pt x="1999" y="1163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8040" y="3059280"/>
              <a:ext cx="0" cy="23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600" y="5931000"/>
              <a:ext cx="234324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kład niestabil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-19080" y="16002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7000" y="464832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1693800" y="1111320"/>
            <a:ext cx="7080120" cy="4795560"/>
            <a:chOff x="1693800" y="1111320"/>
            <a:chExt cx="7080120" cy="4795560"/>
          </a:xfrm>
        </p:grpSpPr>
        <p:grpSp>
          <p:nvGrpSpPr>
            <p:cNvPr id="447" name=""/>
            <p:cNvGrpSpPr/>
            <p:nvPr/>
          </p:nvGrpSpPr>
          <p:grpSpPr>
            <a:xfrm>
              <a:off x="6254640" y="4106880"/>
              <a:ext cx="2519280" cy="1800000"/>
              <a:chOff x="6254640" y="4106880"/>
              <a:chExt cx="2519280" cy="18000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69160" y="4472640"/>
                <a:ext cx="1278000" cy="6562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63760" y="5250240"/>
                <a:ext cx="1278000" cy="656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54640" y="472896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28600" y="4995360"/>
                <a:ext cx="3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57600" y="469152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040" y="495792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600" y="5395680"/>
                <a:ext cx="30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32920" y="5410080"/>
                <a:ext cx="34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2640" y="498960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68640" y="4973760"/>
                <a:ext cx="0" cy="41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20520" y="4106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3400" y="45849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410520" y="476064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19160" y="547632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4000" y="465408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092360" y="54259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7240" y="5771520"/>
                <a:ext cx="243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751040" y="4030560"/>
              <a:ext cx="2518920" cy="1800000"/>
              <a:chOff x="1751040" y="4030560"/>
              <a:chExt cx="2518920" cy="1800000"/>
            </a:xfrm>
          </p:grpSpPr>
          <p:sp>
            <p:nvSpPr>
              <p:cNvPr id="466" name=""/>
              <p:cNvSpPr/>
              <p:nvPr/>
            </p:nvSpPr>
            <p:spPr>
              <a:xfrm>
                <a:off x="2365560" y="4413600"/>
                <a:ext cx="1278000" cy="6483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0160" y="5181840"/>
                <a:ext cx="1277640" cy="64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1040" y="466668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53640" y="462960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5080" y="4893120"/>
                <a:ext cx="22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3640" y="532548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84240" y="5339520"/>
                <a:ext cx="47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95760" y="4672080"/>
                <a:ext cx="0" cy="66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71080" y="489420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87760" y="403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854880" y="45255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944000" y="4983480"/>
                <a:ext cx="0" cy="25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12040" y="455832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8280" y="459540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568960" y="53395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00360" y="5694120"/>
                <a:ext cx="24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48600" y="4637880"/>
                <a:ext cx="680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07120" y="1114560"/>
              <a:ext cx="2518920" cy="1799640"/>
              <a:chOff x="6207120" y="1114560"/>
              <a:chExt cx="2518920" cy="17996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21640" y="1467360"/>
                  <a:ext cx="1278000" cy="6624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15880" y="2251800"/>
                  <a:ext cx="1278000" cy="662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07120" y="17262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89360" y="1994760"/>
                  <a:ext cx="32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10080" y="16884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0080" y="2398680"/>
                  <a:ext cx="14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493680" y="241308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5120" y="2007720"/>
                  <a:ext cx="0" cy="40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63440" y="1684080"/>
                  <a:ext cx="0" cy="70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4560" y="1114560"/>
                  <a:ext cx="56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05840" y="1757880"/>
                  <a:ext cx="0" cy="25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402600" y="2443680"/>
                  <a:ext cx="0" cy="25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27560" y="164196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7019280" y="240876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595720" y="1797120"/>
                  <a:ext cx="0" cy="858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84880" y="27835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210520" y="16495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693800" y="1111320"/>
              <a:ext cx="2518920" cy="1799640"/>
              <a:chOff x="1693800" y="1111320"/>
              <a:chExt cx="2518920" cy="179964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08680" y="1455120"/>
                  <a:ext cx="1277640" cy="6667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02920" y="2244240"/>
                  <a:ext cx="1278000" cy="666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93800" y="17154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96400" y="167724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596400" y="2391840"/>
                  <a:ext cx="198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886760" y="2406600"/>
                  <a:ext cx="42876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86760" y="1715400"/>
                  <a:ext cx="0" cy="69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83960" y="1663920"/>
                  <a:ext cx="0" cy="73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23320" y="111132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4127760" y="1763280"/>
                  <a:ext cx="0" cy="864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952280" y="207288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67760" y="1595160"/>
                  <a:ext cx="33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575800" y="165960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469240" y="239364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712160" y="278820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360" y="1674000"/>
                  <a:ext cx="67680" cy="68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745080" y="163368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6680" y="16128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87200" y="462456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869160" y="4471920"/>
            <a:ext cx="1278000" cy="657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4480" y="5249880"/>
            <a:ext cx="1277640" cy="65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54640" y="47293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29320" y="49957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8320" y="46911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9760" y="495792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8320" y="5396040"/>
            <a:ext cx="30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32560" y="541008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43720" y="498960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9360" y="497376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0520" y="410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304120" y="458460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410160" y="476064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19880" y="547668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74000" y="4654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67600" y="577224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5200" y="4413240"/>
            <a:ext cx="1278000" cy="649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0520" y="5181480"/>
            <a:ext cx="1278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466740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4360" y="462924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56160" y="4892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5326200"/>
            <a:ext cx="20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84240" y="534024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5400" y="467208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1800" y="489420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88120" y="4030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55960" y="452592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44720" y="4984920"/>
            <a:ext cx="0" cy="250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3120" y="4559400"/>
            <a:ext cx="3315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9360" y="459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00360" y="56944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9320" y="4638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1640" y="1467000"/>
            <a:ext cx="127764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16600" y="225252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07120" y="17254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9720" y="19954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10440" y="1689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10440" y="2398680"/>
            <a:ext cx="14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4400" y="24130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96200" y="2008080"/>
            <a:ext cx="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63080" y="16844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35280" y="111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405480" y="17575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402240" y="24433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27920" y="164160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596440" y="1796760"/>
            <a:ext cx="0" cy="85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84880" y="278460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10520" y="1649520"/>
            <a:ext cx="763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8320" y="1454040"/>
            <a:ext cx="1278000" cy="668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2244600"/>
            <a:ext cx="127764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93800" y="17146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97120" y="16779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2392200"/>
            <a:ext cx="19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87480" y="2406240"/>
            <a:ext cx="4287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87480" y="1714680"/>
            <a:ext cx="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84680" y="1663560"/>
            <a:ext cx="0" cy="73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23320" y="1111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27400" y="1763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952640" y="207288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8480" y="1595520"/>
            <a:ext cx="331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6520" y="16588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12880" y="27892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5436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45080" y="1633680"/>
            <a:ext cx="759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451240" y="2428920"/>
            <a:ext cx="198360" cy="298440"/>
            <a:chOff x="2451240" y="2428920"/>
            <a:chExt cx="198360" cy="298440"/>
          </a:xfrm>
        </p:grpSpPr>
        <p:sp>
          <p:nvSpPr>
            <p:cNvPr id="594" name=""/>
            <p:cNvSpPr/>
            <p:nvPr/>
          </p:nvSpPr>
          <p:spPr>
            <a:xfrm>
              <a:off x="2451240" y="24289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550240" y="24782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51240" y="25282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17840" y="5359320"/>
            <a:ext cx="198360" cy="298440"/>
            <a:chOff x="2517840" y="5359320"/>
            <a:chExt cx="198360" cy="298440"/>
          </a:xfrm>
        </p:grpSpPr>
        <p:sp>
          <p:nvSpPr>
            <p:cNvPr id="598" name=""/>
            <p:cNvSpPr/>
            <p:nvPr/>
          </p:nvSpPr>
          <p:spPr>
            <a:xfrm>
              <a:off x="2517840" y="53593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616840" y="54086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17840" y="54586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981840" y="2448000"/>
            <a:ext cx="24444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04240" y="250956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048440" y="5457960"/>
            <a:ext cx="244440" cy="244440"/>
            <a:chOff x="7048440" y="5457960"/>
            <a:chExt cx="244440" cy="244440"/>
          </a:xfrm>
        </p:grpSpPr>
        <p:sp>
          <p:nvSpPr>
            <p:cNvPr id="604" name=""/>
            <p:cNvSpPr/>
            <p:nvPr/>
          </p:nvSpPr>
          <p:spPr>
            <a:xfrm>
              <a:off x="7048440" y="545796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70840" y="55188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305080" y="24192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2760" y="271476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534348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610000" y="5657760"/>
            <a:ext cx="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9840" y="24004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67360" y="5410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95960" y="240048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05680" y="26956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53200" y="541008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72280" y="571500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2284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7338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304800" y="53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838640" y="5391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5160" y="53244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4100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4480" y="493092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575560" y="501660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46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58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62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71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76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598320" y="5369040"/>
                <a:ext cx="228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89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93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98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702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192640" y="5369040"/>
                <a:ext cx="2640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438880" y="4665600"/>
                <a:ext cx="2608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726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727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734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738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47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51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73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6640" y="29685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23400" y="2465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7240" y="2119320"/>
            <a:ext cx="4799880" cy="2404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l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ujem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g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dodat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=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 sprzę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133960" y="5688000"/>
                <a:ext cx="2400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2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93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98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802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814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818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825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830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835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840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50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53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10800" y="3576600"/>
            <a:ext cx="694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72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563400" y="5688000"/>
                <a:ext cx="2316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79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84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88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4451400" y="4794120"/>
                <a:ext cx="3806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047600" y="4929120"/>
                <a:ext cx="1170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930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934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944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49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62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68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80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024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903400" y="5621400"/>
                <a:ext cx="2864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1010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1014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1025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1029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1041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81880" y="40370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49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54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80120" y="87804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4106880" y="5533920"/>
                <a:ext cx="2575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78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83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93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98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104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108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125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128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136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45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6600960" y="4713120"/>
                <a:ext cx="1447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27280" y="1736640"/>
                <a:ext cx="431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375000" y="3814920"/>
                <a:ext cx="1968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3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2720" y="1744560"/>
            <a:ext cx="2781360" cy="16495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97560" y="3624120"/>
            <a:ext cx="898200" cy="1122120"/>
            <a:chOff x="4597560" y="3624120"/>
            <a:chExt cx="898200" cy="1122120"/>
          </a:xfrm>
        </p:grpSpPr>
        <p:sp>
          <p:nvSpPr>
            <p:cNvPr id="1168" name=""/>
            <p:cNvSpPr/>
            <p:nvPr/>
          </p:nvSpPr>
          <p:spPr>
            <a:xfrm>
              <a:off x="4597560" y="3624120"/>
              <a:ext cx="898200" cy="112212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1280" y="396936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61280" y="440100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725720" y="4314600"/>
              <a:ext cx="0" cy="17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344840" y="2882880"/>
            <a:ext cx="841320" cy="130320"/>
            <a:chOff x="4344840" y="2882880"/>
            <a:chExt cx="841320" cy="130320"/>
          </a:xfrm>
        </p:grpSpPr>
        <p:sp>
          <p:nvSpPr>
            <p:cNvPr id="1173" name=""/>
            <p:cNvSpPr/>
            <p:nvPr/>
          </p:nvSpPr>
          <p:spPr>
            <a:xfrm>
              <a:off x="4569120" y="2882880"/>
              <a:ext cx="39276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188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4484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503520" y="2882880"/>
            <a:ext cx="840960" cy="130320"/>
            <a:chOff x="3503520" y="2882880"/>
            <a:chExt cx="840960" cy="130320"/>
          </a:xfrm>
        </p:grpSpPr>
        <p:sp>
          <p:nvSpPr>
            <p:cNvPr id="1177" name=""/>
            <p:cNvSpPr/>
            <p:nvPr/>
          </p:nvSpPr>
          <p:spPr>
            <a:xfrm>
              <a:off x="3727440" y="288288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020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3520" y="29480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H="1">
            <a:off x="4344480" y="38545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44840" y="31208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1720" y="414828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6520" y="2948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75520" y="2676600"/>
            <a:ext cx="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392640" y="4776840"/>
            <a:ext cx="447480" cy="528480"/>
            <a:chOff x="3392640" y="4776840"/>
            <a:chExt cx="447480" cy="528480"/>
          </a:xfrm>
        </p:grpSpPr>
        <p:sp>
          <p:nvSpPr>
            <p:cNvPr id="1186" name=""/>
            <p:cNvSpPr/>
            <p:nvPr/>
          </p:nvSpPr>
          <p:spPr>
            <a:xfrm>
              <a:off x="3392640" y="4776840"/>
              <a:ext cx="447480" cy="528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16560" y="4908600"/>
              <a:ext cx="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 flipH="1">
            <a:off x="3616200" y="4513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16200" y="4525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16200" y="52959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03520" y="555948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45133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495600" y="283680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09920" y="2922480"/>
            <a:ext cx="572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45000" y="240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92520" y="2401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21280" y="4873680"/>
            <a:ext cx="92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22760" y="3203640"/>
            <a:ext cx="46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21160" y="4138560"/>
            <a:ext cx="0" cy="22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6253200" y="4324320"/>
            <a:ext cx="0" cy="12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7480" y="391968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21280" y="4709880"/>
            <a:ext cx="0" cy="747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9960" y="48322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357800" y="2208240"/>
            <a:ext cx="840960" cy="130320"/>
            <a:chOff x="4357800" y="2208240"/>
            <a:chExt cx="840960" cy="130320"/>
          </a:xfrm>
        </p:grpSpPr>
        <p:sp>
          <p:nvSpPr>
            <p:cNvPr id="1205" name=""/>
            <p:cNvSpPr/>
            <p:nvPr/>
          </p:nvSpPr>
          <p:spPr>
            <a:xfrm>
              <a:off x="4581720" y="220824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74480" y="227340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57800" y="22734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187960" y="2128680"/>
            <a:ext cx="71280" cy="330120"/>
            <a:chOff x="5187960" y="2128680"/>
            <a:chExt cx="71280" cy="330120"/>
          </a:xfrm>
        </p:grpSpPr>
        <p:sp>
          <p:nvSpPr>
            <p:cNvPr id="1209" name=""/>
            <p:cNvSpPr/>
            <p:nvPr/>
          </p:nvSpPr>
          <p:spPr>
            <a:xfrm>
              <a:off x="518796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5748480" y="226368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6360" y="22780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22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18000" y="1728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77080" y="17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22920" y="2649600"/>
            <a:ext cx="554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748480" y="26733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15880" y="1760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487520" y="2003400"/>
                <a:ext cx="1681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3729240" y="3273480"/>
            <a:ext cx="44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02400" y="4044960"/>
            <a:ext cx="17460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2040" y="4125960"/>
            <a:ext cx="572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227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242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2840" y="16365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0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920" y="188136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2320" y="5311800"/>
                <a:ext cx="4163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89760" y="231444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26352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4200" y="445464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3320" y="252252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5080" y="217332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 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4160" y="230652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0840" y="1752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11800"/>
                <a:ext cx="6158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9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0040" y="26226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03440" y="4441680"/>
            <a:ext cx="138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5239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2880" y="2174760"/>
            <a:ext cx="32256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0" y="25606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6400" y="5541840"/>
                <a:ext cx="5335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2846520"/>
            <a:ext cx="1473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38520" y="470052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7558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3600" y="240660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jem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5960" y="1744560"/>
            <a:ext cx="7351200" cy="452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19280" y="1166760"/>
                <a:ext cx="1555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563400" y="2239920"/>
            <a:ext cx="6946920" cy="3703680"/>
            <a:chOff x="563400" y="2239920"/>
            <a:chExt cx="6946920" cy="3703680"/>
          </a:xfrm>
        </p:grpSpPr>
        <p:sp>
          <p:nvSpPr>
            <p:cNvPr id="123" name=""/>
            <p:cNvSpPr/>
            <p:nvPr/>
          </p:nvSpPr>
          <p:spPr>
            <a:xfrm>
              <a:off x="2362320" y="41148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2895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8720" y="4133880"/>
              <a:ext cx="1130400" cy="8380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96720" y="3298680"/>
              <a:ext cx="1252440" cy="87336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00" y="4100400"/>
              <a:ext cx="349596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014720" y="3220200"/>
              <a:ext cx="349560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760" y="37162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31000" y="246528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200" y="2239920"/>
              <a:ext cx="3157560" cy="917640"/>
            </a:xfrm>
            <a:prstGeom prst="wedgeRectCallout">
              <a:avLst>
                <a:gd name="adj1" fmla="val 65736"/>
                <a:gd name="adj2" fmla="val 112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chylenie =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160" y="4657680"/>
              <a:ext cx="2628720" cy="774720"/>
            </a:xfrm>
            <a:prstGeom prst="wedgeRectCallout">
              <a:avLst>
                <a:gd name="adj1" fmla="val -59180"/>
                <a:gd name="adj2" fmla="val -180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Nachylenie =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329724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97320" y="327348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576756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97160" y="1035000"/>
                <a:ext cx="4051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…</m:t>
                                </m:r>
                              </m:e>
                            </m:ba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8960" y="5622840"/>
            <a:ext cx="17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6-03-23T15:41:37Z</dcterms:modified>
  <cp:revision>136</cp:revision>
  <dc:subject/>
  <dc:title>Sprzężenie zwrotne</dc:title>
</cp:coreProperties>
</file>